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7.jpeg" ContentType="image/jpeg"/>
  <Override PartName="/ppt/media/image11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10.jpeg" ContentType="image/jpeg"/>
  <Override PartName="/ppt/media/image2.gif" ContentType="image/gi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31EB-DEE5-4D03-9483-6534B02B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B3BC-79E2-4DB7-9660-E574D402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2F0-C966-4A05-9B2A-11C18AF8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8002-F96B-479E-B8A2-7A62B527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FF5-8653-4A3A-A2B3-6BD66BDE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39DB-DCFE-44E6-9D6C-6CBF88FF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7BE4-70DE-47E1-8701-72C42686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C93-4514-4F4F-A5B5-29E46DDF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CABB-A07D-4889-9064-98A60CEB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46B8-02F8-4A2E-98A0-555BB4AE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65DE-58CB-4C44-A210-CE0E08AB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9E81-33F3-4B53-AC8E-1DE397F5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69D5-F6F0-42DA-82FF-93EACACF451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2.gif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gi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Odbijanje svjetlosti - zrca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vidimo predmete oko seb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a bismo vidjeli predmete potreban je izvor svjetlosti koji će ih obasjati. Dio svjetlosti odbije se od predmeta u naše oč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bismo ispitali o čemu ovisi način odbijanja svjetlost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Zbog čega je u pokusu na početku površina zrcala bila tamna, a površina papira osvjetljen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aralelan svjetlosni snop se na papiru odbija 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difuzno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, u svim smjerovima, a na zrcalu se odbija 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samo u jednom smjer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280.tif"/>
          <p:cNvPicPr/>
          <p:nvPr/>
        </p:nvPicPr>
        <p:blipFill>
          <a:blip r:embed="rId9"/>
          <a:stretch/>
        </p:blipFill>
        <p:spPr>
          <a:xfrm>
            <a:off x="1403280" y="2421000"/>
            <a:ext cx="2881440" cy="1987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281.tif"/>
          <p:cNvPicPr/>
          <p:nvPr/>
        </p:nvPicPr>
        <p:blipFill>
          <a:blip r:embed="rId10"/>
          <a:srcRect l="0" t="19998" r="0" b="0"/>
          <a:stretch/>
        </p:blipFill>
        <p:spPr>
          <a:xfrm>
            <a:off x="4716360" y="2349360"/>
            <a:ext cx="2880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Kako nastaje slika u ravnom zrcal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vaka uglačana ravna površina tijela, bilo da je staklena ili metalna pa i mirna površina vode, ponaša se ka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rcal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Što vidite gledajući se u zrcalo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ravnom zrcalu vidimo svoju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liku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a odgovara našoj veličini i uspravna 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jezero - refleksija.jpg"/>
          <p:cNvPicPr/>
          <p:nvPr/>
        </p:nvPicPr>
        <p:blipFill>
          <a:blip r:embed="rId1"/>
          <a:stretch/>
        </p:blipFill>
        <p:spPr>
          <a:xfrm>
            <a:off x="666720" y="1555920"/>
            <a:ext cx="78105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58435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okus: svijeća u vod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Kako nastaje slika svijeće koja gori u vodi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Svjetlost, koja se odbila od površine svijeće, dolazi do plohe zrcala i odbija se prema našem ok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285 novo.tif"/>
          <p:cNvPicPr/>
          <p:nvPr/>
        </p:nvPicPr>
        <p:blipFill>
          <a:blip r:embed="rId5"/>
          <a:stretch/>
        </p:blipFill>
        <p:spPr>
          <a:xfrm>
            <a:off x="6300720" y="2421000"/>
            <a:ext cx="26496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nastaje slika u ravnom zrcal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slika u ravnom zrcalu 2.mp4" descr=""/>
          <p:cNvPicPr/>
          <p:nvPr/>
        </p:nvPicPr>
        <p:blipFill>
          <a:blip r:embed="rId3"/>
          <a:stretch/>
        </p:blipFill>
        <p:spPr>
          <a:xfrm>
            <a:off x="1979640" y="206064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lika predmeta u ravnom zrcalu j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ividna, uspravna, jednake veličine kao predmet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 nalazi se iza zrcala, na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jednakoj udaljenosti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d zrcala kao i predm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286..tif"/>
          <p:cNvPicPr/>
          <p:nvPr/>
        </p:nvPicPr>
        <p:blipFill>
          <a:blip r:embed="rId2"/>
          <a:stretch/>
        </p:blipFill>
        <p:spPr>
          <a:xfrm>
            <a:off x="5148360" y="1916280"/>
            <a:ext cx="324468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kako se svjetlost odbija od zrcala i papi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dbija li se svjetlost od svih površin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Hoće li se jednako odbiti od zrcala i papi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šajte nacrtati svoja predviđan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SnapShot(662)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755640" y="1197000"/>
            <a:ext cx="770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Kako zrcalo odbija svjetl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dbija li se svjetlost u snop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rijedi li pri odbijanju neka zakonitost među kutovim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DSC00771.JPG"/>
          <p:cNvPicPr/>
          <p:nvPr/>
        </p:nvPicPr>
        <p:blipFill>
          <a:blip r:embed="rId4"/>
          <a:stretch/>
        </p:blipFill>
        <p:spPr>
          <a:xfrm>
            <a:off x="900000" y="1844640"/>
            <a:ext cx="3780000" cy="2130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DSC00774.JPG"/>
          <p:cNvPicPr/>
          <p:nvPr/>
        </p:nvPicPr>
        <p:blipFill>
          <a:blip r:embed="rId5"/>
          <a:stretch/>
        </p:blipFill>
        <p:spPr>
          <a:xfrm>
            <a:off x="4643280" y="1844640"/>
            <a:ext cx="37800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Zakon odbijanja - laser 1280.jpg"/>
          <p:cNvPicPr/>
          <p:nvPr/>
        </p:nvPicPr>
        <p:blipFill>
          <a:blip r:embed="rId1"/>
          <a:srcRect l="4651" t="0" r="5315" b="16906"/>
          <a:stretch/>
        </p:blipFill>
        <p:spPr>
          <a:xfrm>
            <a:off x="108000" y="1557360"/>
            <a:ext cx="89280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Zakon odbijanja - laser 2 1280.jpg"/>
          <p:cNvPicPr/>
          <p:nvPr/>
        </p:nvPicPr>
        <p:blipFill>
          <a:blip r:embed="rId1"/>
          <a:stretch/>
        </p:blipFill>
        <p:spPr>
          <a:xfrm>
            <a:off x="468360" y="1052640"/>
            <a:ext cx="827892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vi-VN" sz="3200" spc="-1" strike="noStrike">
                <a:solidFill>
                  <a:srgbClr val="000000"/>
                </a:solidFill>
                <a:latin typeface="Calibri"/>
              </a:rPr>
              <a:t>Upadni kut </a:t>
            </a:r>
            <a:r>
              <a:rPr b="0" i="1" lang="vi-V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 je kut između upadne zrake i okomice na ravninu zrcala, a </a:t>
            </a:r>
            <a:r>
              <a:rPr b="1" lang="vi-VN" sz="3200" spc="-1" strike="noStrike">
                <a:solidFill>
                  <a:srgbClr val="000000"/>
                </a:solidFill>
                <a:latin typeface="Calibri"/>
              </a:rPr>
              <a:t>kut odbijanja </a:t>
            </a:r>
            <a:r>
              <a:rPr b="0" i="1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je kut između odbijene zrake svjetlosti i okomice na zrcal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ut odbijanja jednak je upadnom kut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i="1" lang="el-GR" sz="3200" spc="-1" strike="noStrike">
                <a:solidFill>
                  <a:srgbClr val="000000"/>
                </a:solidFill>
                <a:latin typeface="Calibri"/>
              </a:rPr>
              <a:t>β = 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o j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kon odbijanja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l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efleksije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svjetlos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se nalazi na slic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Black cat eyes closed 800.jpg"/>
          <p:cNvPicPr/>
          <p:nvPr/>
        </p:nvPicPr>
        <p:blipFill>
          <a:blip r:embed="rId2"/>
          <a:stretch/>
        </p:blipFill>
        <p:spPr>
          <a:xfrm>
            <a:off x="1619280" y="2492280"/>
            <a:ext cx="576108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Black cat eyes open copy.jpg"/>
          <p:cNvPicPr/>
          <p:nvPr/>
        </p:nvPicPr>
        <p:blipFill>
          <a:blip r:embed="rId1"/>
          <a:stretch/>
        </p:blipFill>
        <p:spPr>
          <a:xfrm>
            <a:off x="1619280" y="2492280"/>
            <a:ext cx="576108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7T18:55:18Z</dcterms:created>
  <dc:creator>Zdenko</dc:creator>
  <dc:description/>
  <dc:language>en-US</dc:language>
  <cp:lastModifiedBy>Zdenko</cp:lastModifiedBy>
  <dcterms:modified xsi:type="dcterms:W3CDTF">2014-07-18T09:15:29Z</dcterms:modified>
  <cp:revision>24</cp:revision>
  <dc:subject/>
  <dc:title>Odbijanje svjetlosti</dc:title>
</cp:coreProperties>
</file>